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715-842D-4D32-A805-A7F04993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437-6F94-4A51-B766-667C3A79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DF8-2642-4ECC-AA2F-BFCD079F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AEE-62F9-4A45-B72F-41B8D1B3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815-3AD4-4B46-B384-93DF82AE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69E4-55DB-405C-8441-0B71D6D4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DAE0-4958-42EE-A41D-1A117836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8487-0BE0-43B0-8B74-526B5900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FDFE-B302-4F4A-8B97-6A06B979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0B3-BF1F-42AB-9917-1B8999B6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2B1-320E-4AAC-AC01-DBF2A1B2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B763-50D6-49C5-A51E-E2C3E2A2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744E-446E-4EBE-B07F-771C797FF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55:00Z</dcterms:created>
  <dc:creator>*</dc:creator>
  <dc:description/>
  <dc:language>en-US</dc:language>
  <cp:lastModifiedBy>*</cp:lastModifiedBy>
  <dcterms:modified xsi:type="dcterms:W3CDTF">2008-01-13T20:56:30Z</dcterms:modified>
  <cp:revision>1</cp:revision>
  <dc:subject/>
  <dc:title>PowerPoint-Präsentation</dc:title>
</cp:coreProperties>
</file>