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5228-BAA1-4152-810D-232EE1FC4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02A9-FEB2-4FC8-A86E-206F59257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1627-6880-4269-86F8-39D6B0F95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C108-07F2-4FBD-893F-7C107EE2E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A4E6-9CEB-40F7-B70C-D764B4E19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8703-880E-44EE-BBEA-81010A3BC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6692-B895-41FC-AA9E-82933CA94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11E9-AD02-4932-9641-F1BC27C93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E50B-2585-4573-ABA4-DA490587B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5A4B-2C08-49BF-BE53-A7F7E2E9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60DD-54A1-4803-B3D1-3410A334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12D0-D96D-40C8-A2A0-60C5C163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ACC08-D020-46FD-89F3-782278C6E4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8360" y="0"/>
            <a:ext cx="64612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21:02:56Z</dcterms:created>
  <dc:creator>*</dc:creator>
  <dc:description/>
  <dc:language>en-US</dc:language>
  <cp:lastModifiedBy>*</cp:lastModifiedBy>
  <dcterms:modified xsi:type="dcterms:W3CDTF">2008-01-13T21:03:10Z</dcterms:modified>
  <cp:revision>1</cp:revision>
  <dc:subject/>
  <dc:title>PowerPoint-Präsentation</dc:title>
</cp:coreProperties>
</file>