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6A4-B234-44BE-B4A5-4DBBF388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00F-40E6-410E-ACDF-8B6564C8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2D2-B54F-4297-94F1-392D9B76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FFCB-E2A2-49B8-B093-639672B7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3664-185A-44DE-9173-F147876C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C68-5154-45AB-8CFA-311855F4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B908-A0D5-4C57-87A0-D73836A3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2A2-183D-4C18-818D-F8B3B5BA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5E7-828F-45BA-B876-CF9C0653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C02-F6C3-4D52-A3B9-CF4412C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A3C-11A3-494E-BD18-C95F524C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AF7-B92A-4FCC-8154-B1AD4BE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53C9-72F5-433E-852A-EAD764808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64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9:54Z</dcterms:created>
  <dc:creator>*</dc:creator>
  <dc:description/>
  <dc:language>en-US</dc:language>
  <cp:lastModifiedBy>*</cp:lastModifiedBy>
  <dcterms:modified xsi:type="dcterms:W3CDTF">2008-01-13T21:00:09Z</dcterms:modified>
  <cp:revision>1</cp:revision>
  <dc:subject/>
  <dc:title>PowerPoint-Präsentation</dc:title>
</cp:coreProperties>
</file>