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F5CD-4DB4-4D43-8F9F-13B42935B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3237-9331-466A-8419-3149B06A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E897-8040-43B3-AFC9-E25AF0F37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800F-1A25-436F-8AAD-F4E43A168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210D-8EFB-44C4-B7B8-24CDC296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4CF6-458C-44F1-9A45-71D34BC0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F6A8-157B-46B3-B780-C3E7433F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5390-E9D9-4892-B513-897C247B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A048-2E45-4E72-B6BF-4D6DAD80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1C87-BEC2-4CA6-A8F8-F0E57421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9729-99B5-4312-AB1F-BEB6F3FC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CEE6-2CB8-425C-A6A9-D0701365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D14F-358B-41D2-BDAE-F0C0200A8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68640" y="4716360"/>
            <a:ext cx="345600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14360" y="1227240"/>
            <a:ext cx="6121440" cy="3384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42800" y="26676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Ranglisten Kantonalmatch 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Standard- und Schnellfeuerpist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81360" y="1116000"/>
            <a:ext cx="3600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49680" y="142236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Kantonalmatch Standardpist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5654520"/>
            <a:ext cx="6048360" cy="2629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41720" y="5605560"/>
            <a:ext cx="3585960" cy="83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6880" y="58672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Kantonalmatch </a:t>
            </a:r>
            <a:br>
              <a:rPr sz="1800"/>
            </a:b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Schnellfeuerpist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16:23:45Z</dcterms:created>
  <dc:creator>Nydergger Ernst</dc:creator>
  <dc:description/>
  <dc:language>en-US</dc:language>
  <cp:lastModifiedBy>Nydergger Ernst</cp:lastModifiedBy>
  <dcterms:modified xsi:type="dcterms:W3CDTF">2008-10-18T16:31:48Z</dcterms:modified>
  <cp:revision>1</cp:revision>
  <dc:subject/>
  <dc:title>Folie 1</dc:title>
</cp:coreProperties>
</file>