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7F3C-EBC0-439F-962E-18C636BAD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B6D3A-09E7-4217-8A17-F858C155E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2819-0AE2-4FA0-8E1E-D17C8D586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9095-F4C8-4B2C-8EDF-9AC3A3373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D4524-E746-4CAE-A7E0-4FF3CC4F2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B5B1-6DE7-40A5-A60A-A8BEBC10A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141-09AB-404F-93E2-01CE7FFBE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BFAF-F1A4-4FE1-9989-56A505AD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3867-E981-4B2F-A305-B3B30150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E170-B13E-4244-8F4E-0AB52C3D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96A-E8CE-4B9B-B75F-C462E55CC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9ED58-29D6-488D-A41E-72BA4B1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1EF5D-664E-499E-B503-8D7F08860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58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5:00Z</dcterms:created>
  <dc:creator>*</dc:creator>
  <dc:description/>
  <dc:language>en-US</dc:language>
  <cp:lastModifiedBy>*</cp:lastModifiedBy>
  <dcterms:modified xsi:type="dcterms:W3CDTF">2008-01-13T20:56:30Z</dcterms:modified>
  <cp:revision>1</cp:revision>
  <dc:subject/>
  <dc:title>PowerPoint-Präsentation</dc:title>
</cp:coreProperties>
</file>