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A008-FF7A-4222-8358-DB47E1527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C683-8B94-4743-85BD-A06A1504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0CFD-D684-4379-8F3C-9E58E9138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7F57-9057-407F-8779-A12B4CF99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2B0A-B5C3-4F80-A258-D93C62577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F403-83F6-40A8-AD12-C812DE786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8DA36-487B-478C-8CDC-5D5DECBB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015D-5552-44D0-82BF-24352D44A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D9BD-824E-4A20-8250-E8C625B2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42A9-011C-4CAC-8C29-1DDB1E702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A257-68D8-40CD-BB62-A170FCC6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668B4-8E87-49E4-865F-F87007F0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13D32-89C4-40C9-A92A-E2D5CBE124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98360" y="0"/>
            <a:ext cx="646128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1:02:56Z</dcterms:created>
  <dc:creator>*</dc:creator>
  <dc:description/>
  <dc:language>en-US</dc:language>
  <cp:lastModifiedBy>*</cp:lastModifiedBy>
  <dcterms:modified xsi:type="dcterms:W3CDTF">2008-01-13T21:03:10Z</dcterms:modified>
  <cp:revision>1</cp:revision>
  <dc:subject/>
  <dc:title>PowerPoint-Präsentation</dc:title>
</cp:coreProperties>
</file>