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00E1-9ADF-48DE-9C93-357EA9DF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37A79-DAB5-46CC-B4F8-4F80F66F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D685-548F-4DDC-A7B0-4092AC3AA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9F07-6096-4FE5-9725-180700F3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5A38-777E-4012-9748-D9C05F24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1CDD-93CC-4E1C-8910-F61AA0D19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9972-D493-465D-8FF5-870FB8D3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BAA77-B65A-4FE7-9E2B-274F42B59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A342-0F6C-4AC1-8673-33533A14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08B0-62EF-4E7E-BAEA-D3F1574FE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7D6-F8B9-4B77-AD4B-6F26D8070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A4F0-FD4F-46A7-8C81-163372261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388E-7DAC-4316-BFC7-C29F2EB4FD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6464520" cy="914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3T20:59:54Z</dcterms:created>
  <dc:creator>*</dc:creator>
  <dc:description/>
  <dc:language>en-US</dc:language>
  <cp:lastModifiedBy>*</cp:lastModifiedBy>
  <dcterms:modified xsi:type="dcterms:W3CDTF">2008-01-13T21:00:09Z</dcterms:modified>
  <cp:revision>1</cp:revision>
  <dc:subject/>
  <dc:title>PowerPoint-Präsentation</dc:title>
</cp:coreProperties>
</file>