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CE87-F6F9-4FF0-BD87-DC5F05059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3A93-126F-4B06-985C-A1E3C02B6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FDDF-736A-48CC-ADC7-29E976B2B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12BC-AE95-4E4A-8E0F-17966CB48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120B-6E41-405B-AFD1-C4767B89A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BD66-F679-473B-BF90-CD00ED804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9BB21-1805-4F0E-9CE7-2F5E8ADDD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D4D1-F7AF-4BEE-82C2-1783170BD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D316-EB7F-4207-A73C-B82A95329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85D0-5129-401B-B7A7-EFA73749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A01F-6A59-4F37-B558-EA0A7C56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F60A-7053-4674-A4CC-5E5DB8629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19AF8-BD37-4C4B-A7F5-F0E2FC56A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68640" y="4716360"/>
            <a:ext cx="3456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14360" y="1227240"/>
            <a:ext cx="6121440" cy="3384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442800" y="266760"/>
            <a:ext cx="60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Ranglisten Kantonalmatch </a:t>
            </a:r>
            <a:br>
              <a:rPr sz="2000"/>
            </a:br>
            <a:r>
              <a:rPr b="1" lang="de-CH" sz="2000" spc="-1" strike="noStrike">
                <a:solidFill>
                  <a:srgbClr val="000000"/>
                </a:solidFill>
                <a:latin typeface="Arial"/>
              </a:rPr>
              <a:t>Standard- und Schnellfeuerpist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81360" y="1116000"/>
            <a:ext cx="360036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49680" y="1422360"/>
            <a:ext cx="36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Standard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68360" y="5654520"/>
            <a:ext cx="6048360" cy="26290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41720" y="5605560"/>
            <a:ext cx="3585960" cy="83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06880" y="586728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Kantonalmatch </a:t>
            </a:r>
            <a:br>
              <a:rPr sz="1800"/>
            </a:b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Schnellfeuerpist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6:23:45Z</dcterms:created>
  <dc:creator>Nydergger Ernst</dc:creator>
  <dc:description/>
  <dc:language>en-US</dc:language>
  <cp:lastModifiedBy>Nydergger Ernst</cp:lastModifiedBy>
  <dcterms:modified xsi:type="dcterms:W3CDTF">2008-10-18T16:31:48Z</dcterms:modified>
  <cp:revision>1</cp:revision>
  <dc:subject/>
  <dc:title>Folie 1</dc:title>
</cp:coreProperties>
</file>