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8359-3E5E-49E1-9919-6EB3652DA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ECBD-5A04-467A-9CC9-9CED442D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3624-FC11-4494-AA2E-6FB2BEFB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0CA0-AF01-414E-973E-FE3BBBD8C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EC4E-1803-44C9-A3E9-3D1A2625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8959-AEC3-4A4B-8831-48224CB7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576C-51E9-4C70-A8E0-807EA3C1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B2F2-D6F4-4AEA-91C8-20983BD3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97B4-C2DB-415A-9F95-9E97E982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1F25-4B24-4518-881A-C04979DF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56EF-6E44-4D50-8445-8F5FF7BD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21E4-9B41-4D99-9C2D-3FED09C5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9B8E-5419-4805-881F-458296502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68640" y="4716360"/>
            <a:ext cx="345600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14360" y="1227240"/>
            <a:ext cx="6121440" cy="3384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42800" y="26676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Ranglisten Kantonalmatch 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Standard- und Schnellfeuerpist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81360" y="1116000"/>
            <a:ext cx="3600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49680" y="142236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Kantonalmatch Standardpist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5654520"/>
            <a:ext cx="6048360" cy="262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41720" y="5605560"/>
            <a:ext cx="3585960" cy="83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6880" y="5867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Kantonalmatch </a:t>
            </a:r>
            <a:br>
              <a:rPr sz="1800"/>
            </a:b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Schnellfeuerpist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16:23:45Z</dcterms:created>
  <dc:creator>Nydergger Ernst</dc:creator>
  <dc:description/>
  <dc:language>en-US</dc:language>
  <cp:lastModifiedBy>Nydergger Ernst</cp:lastModifiedBy>
  <dcterms:modified xsi:type="dcterms:W3CDTF">2008-10-18T16:31:48Z</dcterms:modified>
  <cp:revision>1</cp:revision>
  <dc:subject/>
  <dc:title>Folie 1</dc:title>
</cp:coreProperties>
</file>