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C056-DFAC-425D-BDF5-0104745FD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C22B-D1B6-45D3-8B8E-4EDBE940B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779F-EE37-4674-9449-E2E5DA6D3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FFF9-2A9A-4F32-9AF2-45CCB55C5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714D-FB93-4DE5-9650-0D3228195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2A09-7691-46EB-9F65-A8BFF1BDA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0D34-FEDE-463D-9557-2C5597F43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B12B-FA59-44A0-A187-614D72B3C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06C0-EC41-4CDC-BB51-54969BF8B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5FB2-F8CE-4163-97B3-A28441B64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2860-8DEC-43EB-8E48-A95CDEEA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6387-2AB4-4388-9133-707CCAE1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0F7B8-8DE8-4152-A290-7C8849F6C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68640" y="4716360"/>
            <a:ext cx="345600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14360" y="1227240"/>
            <a:ext cx="6121440" cy="3384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42800" y="266760"/>
            <a:ext cx="60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Ranglisten Kantonalmatch 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Standard- und Schnellfeuerpist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81360" y="1116000"/>
            <a:ext cx="360036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749680" y="1422360"/>
            <a:ext cx="36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Kantonalmatch Standardpist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68360" y="5654520"/>
            <a:ext cx="6048360" cy="2629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41720" y="5605560"/>
            <a:ext cx="3585960" cy="83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06880" y="5867280"/>
            <a:ext cx="25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Kantonalmatch </a:t>
            </a:r>
            <a:br>
              <a:rPr sz="1800"/>
            </a:b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Schnellfeuerpist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16:23:45Z</dcterms:created>
  <dc:creator>Nydergger Ernst</dc:creator>
  <dc:description/>
  <dc:language>en-US</dc:language>
  <cp:lastModifiedBy>Nydergger Ernst</cp:lastModifiedBy>
  <dcterms:modified xsi:type="dcterms:W3CDTF">2008-10-18T16:31:48Z</dcterms:modified>
  <cp:revision>1</cp:revision>
  <dc:subject/>
  <dc:title>Folie 1</dc:title>
</cp:coreProperties>
</file>