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8A9-B26F-4804-90B1-24D90474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4F2-CE27-493E-AF83-37E54C78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CBF-8592-48FF-811B-F0AF3FB1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1EB-2123-4520-8EA1-AD812672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A6A-104D-46A2-9681-1B48FE33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507-F991-4AAA-B6F1-AF768A3B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F09-8FC9-4B54-B71E-3EA710E2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B1B-AA8B-41E2-91CF-4F8AFE6F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BD5-5DB2-4905-AB40-76B5EFD5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805-C003-4180-891E-6B71D24D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760-7648-4758-BF3A-3EE950EC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F93-5458-4425-88B1-E7B25D52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6AE9-AAED-47A5-A890-752B8742D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4716360"/>
            <a:ext cx="34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360" y="1227240"/>
            <a:ext cx="612144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800" y="2667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nglisten Kantonalmatch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andard- und Schnellfeuerpist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81360" y="111600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9680" y="1422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Standard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654520"/>
            <a:ext cx="6048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41720" y="5605560"/>
            <a:ext cx="358596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5867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chnellfeuer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3:45Z</dcterms:created>
  <dc:creator>Nydergger Ernst</dc:creator>
  <dc:description/>
  <dc:language>en-US</dc:language>
  <cp:lastModifiedBy>Nydergger Ernst</cp:lastModifiedBy>
  <dcterms:modified xsi:type="dcterms:W3CDTF">2008-10-18T16:31:48Z</dcterms:modified>
  <cp:revision>1</cp:revision>
  <dc:subject/>
  <dc:title>Folie 1</dc:title>
</cp:coreProperties>
</file>