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F37-4847-44CF-9B8E-D87F6706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E09-FAF5-456C-86DB-4A99D727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167-7359-40F4-B539-A2FA53FB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890-16F1-4442-911A-8B65361B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EF7-2CEB-4645-9D9F-26D45EFC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041-DFBF-4D2F-A06D-0E2AA5AB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CFC-143E-4961-8E39-4512394D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BFB-2F04-4EAB-8B01-053B9CF2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EE1C-9C85-468D-B2E7-4811EB5F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B04-4E63-4FCC-A682-DFE64F8C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AFB-26D4-4EB5-8AD5-21ED0CD2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36D-8B16-4ADC-9446-09DEED1E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3383-555B-41B9-A17F-2419DEC9E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55:00Z</dcterms:created>
  <dc:creator>*</dc:creator>
  <dc:description/>
  <dc:language>en-US</dc:language>
  <cp:lastModifiedBy>*</cp:lastModifiedBy>
  <dcterms:modified xsi:type="dcterms:W3CDTF">2008-01-13T20:56:30Z</dcterms:modified>
  <cp:revision>1</cp:revision>
  <dc:subject/>
  <dc:title>PowerPoint-Präsentation</dc:title>
</cp:coreProperties>
</file>