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7CD-58B2-45CA-B18F-3C472253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925-F96C-4175-A69A-D8AD17B1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F02-76AF-47EF-91DB-30EF6664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4DF-2F02-494D-9658-8595E896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035-165C-48C2-A0F7-6409E3E2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313-3FC0-4A48-AE38-5686D5E4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296-6920-4921-8A7E-47467026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FB6-B5F3-4403-8911-1E5D71F0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F77-B873-400C-B29E-C49B6F45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C2A-C10E-46DC-8C35-E4DF8753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B92-EFD7-4858-B14E-2E87E840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488-04B8-47AE-A310-ABCA9141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CE67-4335-49EE-B086-4EBE9AA13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8640" y="4716360"/>
            <a:ext cx="3456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4360" y="1227240"/>
            <a:ext cx="6121440" cy="338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800" y="2667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anglisten Kantonalmatch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tandard- und Schnellfeuerpist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81360" y="1116000"/>
            <a:ext cx="3600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9680" y="1422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Standard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5654520"/>
            <a:ext cx="604836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41720" y="5605560"/>
            <a:ext cx="3585960" cy="8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6880" y="5867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chnellfeuer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6:23:45Z</dcterms:created>
  <dc:creator>Nydergger Ernst</dc:creator>
  <dc:description/>
  <dc:language>en-US</dc:language>
  <cp:lastModifiedBy>Nydergger Ernst</cp:lastModifiedBy>
  <dcterms:modified xsi:type="dcterms:W3CDTF">2008-10-18T16:31:48Z</dcterms:modified>
  <cp:revision>1</cp:revision>
  <dc:subject/>
  <dc:title>Folie 1</dc:title>
</cp:coreProperties>
</file>