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209-F1CA-4632-BE4C-6D54F230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72A-275E-4F34-B837-E1E7214C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F86-ED79-4E6B-9A5F-4B946073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A2C-8DB6-4B03-9389-FB345117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DAC-D88B-449D-BC0C-9174BB3F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899-6F87-4A90-BB87-680C46F7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83B-FF55-4814-BD13-1A65B121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1CF-F881-4EA1-8062-B874F519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7F1-FEA6-412A-BED4-432B8B22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9B4-3D25-4F0C-8811-49236CE9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FB6-1C5C-49A2-A346-8CB6ACEA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5B7-F234-4B0A-B8BF-71502C21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1E60-D54D-48C5-823A-DCB6926D0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64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9:54Z</dcterms:created>
  <dc:creator>*</dc:creator>
  <dc:description/>
  <dc:language>en-US</dc:language>
  <cp:lastModifiedBy>*</cp:lastModifiedBy>
  <dcterms:modified xsi:type="dcterms:W3CDTF">2008-01-13T21:00:09Z</dcterms:modified>
  <cp:revision>1</cp:revision>
  <dc:subject/>
  <dc:title>PowerPoint-Präsentation</dc:title>
</cp:coreProperties>
</file>