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574-BF07-44F8-9CDB-525E376A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91B-0998-4721-913E-8B797515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48B-6ED9-440A-89C2-E25D9E02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721-C465-4E84-AC74-DE4CEB35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25B-C8A8-449C-92F1-70A44D26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BE1-97A3-47AB-A189-1AEADB85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6DE-EB05-4937-96E9-323D8456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648-C9D4-425C-9CA0-9D6EA580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DDF-677F-4C7C-A1F3-3200C7E9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CF8-4C0D-4EB7-B4DC-990EEB20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371-C0EE-4793-A94F-9F47D19A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B0C-450F-4CA2-9053-65F645E5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EFDF-B7FF-4B4B-A31A-98A253F93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360" y="0"/>
            <a:ext cx="6461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1:02:56Z</dcterms:created>
  <dc:creator>*</dc:creator>
  <dc:description/>
  <dc:language>en-US</dc:language>
  <cp:lastModifiedBy>*</cp:lastModifiedBy>
  <dcterms:modified xsi:type="dcterms:W3CDTF">2008-01-13T21:03:10Z</dcterms:modified>
  <cp:revision>1</cp:revision>
  <dc:subject/>
  <dc:title>PowerPoint-Präsentation</dc:title>
</cp:coreProperties>
</file>