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D95-5662-4895-87E5-B258208D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AEF-DE2A-45EA-AB05-FED0F583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EFF-52DD-4BC2-A71F-D6C6B648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F96-0374-4727-A68C-77FC891D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55B-BA24-4F2D-879E-3E2A31BE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6DF-50A1-49CF-907E-8C39BDBE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678-3149-4D29-945A-4B37BA30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B73-3FF2-471D-81B3-5D3026EE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C58-3D32-4B50-AB2F-9AE4246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DFB-F6A3-4391-AAAC-65F0AF2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6D3-1045-4CF7-9E9B-55B1E65F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85E-E83C-4C23-BC8D-B38BAD32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80A0-0453-4647-A823-E5CB0E584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5:00Z</dcterms:created>
  <dc:creator>*</dc:creator>
  <dc:description/>
  <dc:language>en-US</dc:language>
  <cp:lastModifiedBy>*</cp:lastModifiedBy>
  <dcterms:modified xsi:type="dcterms:W3CDTF">2008-01-13T20:56:30Z</dcterms:modified>
  <cp:revision>1</cp:revision>
  <dc:subject/>
  <dc:title>PowerPoint-Präsentation</dc:title>
</cp:coreProperties>
</file>