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0DF-8472-40EE-BB77-3B04A4F1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C64-7AE4-49AE-9874-51D2AC22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75B-A906-4111-AE49-60FD4D0C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C83-FDAD-499B-AFFB-F9F68602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735-70C2-453A-9CF1-ACB748F1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36D-78E7-4144-AAB0-C229458E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0FC-1EF6-4FD8-8A2F-B611609C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823-BDB6-4920-A116-C2419A11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06F-9A97-4FAF-ADA5-C7BBEF1C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1DD-B194-418F-A564-B7BB698E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34D-2B35-4490-939B-38F7597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69F-FFD7-472E-BB2F-E4787D31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19E9-B568-461C-AB51-95E0C0C8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464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9:54Z</dcterms:created>
  <dc:creator>*</dc:creator>
  <dc:description/>
  <dc:language>en-US</dc:language>
  <cp:lastModifiedBy>*</cp:lastModifiedBy>
  <dcterms:modified xsi:type="dcterms:W3CDTF">2008-01-13T21:00:09Z</dcterms:modified>
  <cp:revision>1</cp:revision>
  <dc:subject/>
  <dc:title>PowerPoint-Präsentation</dc:title>
</cp:coreProperties>
</file>