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CD7-CB70-4E45-BAF6-04B10F02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3F8-340C-428F-9E82-2DF45889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73E-7AA9-4D74-B4A4-6ED81987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7D4-1C67-498A-B010-D280C071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A1F-9AED-4977-8A28-44100A6A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B02-9D15-4D39-B90E-31DF1EF5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BAC-0BAE-46F4-B2E0-66C3FD6F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451-0060-4899-84EF-DD9DA2AA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47E-7889-49EC-9E00-B042606B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18A-7089-4DF8-8180-22C931D4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0A7-F76F-428A-9AFD-BD0E4591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A84-9AD6-469A-BDAB-614AD33B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D6B5-7FA4-467A-8A4D-BE7C207FA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360" y="0"/>
            <a:ext cx="6461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1:02:56Z</dcterms:created>
  <dc:creator>*</dc:creator>
  <dc:description/>
  <dc:language>en-US</dc:language>
  <cp:lastModifiedBy>*</cp:lastModifiedBy>
  <dcterms:modified xsi:type="dcterms:W3CDTF">2008-01-13T21:03:10Z</dcterms:modified>
  <cp:revision>1</cp:revision>
  <dc:subject/>
  <dc:title>PowerPoint-Präsentation</dc:title>
</cp:coreProperties>
</file>