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748-8BD8-44F6-A6E8-E86E6E60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4D6-B707-43CB-A796-AE0E9304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518-35E2-4970-9429-2FCEC7C6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A1E-993E-4C36-BEB9-D120845B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2D6-B234-4DD9-9F3C-839AC661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5C2-5D4F-4813-AD9F-F0DA6083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899-4FB4-4166-A2BB-8C82E0D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56D-CAA0-4542-A7B9-95CA4E01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60B-85C0-4982-8C34-EF08A40F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F53-ADA8-47FA-8FD2-72279944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0A8-2543-477F-960F-D381C24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DD3-5757-4887-B562-A65748CA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3E08-FAD5-4335-A541-201EC615D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464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9:54Z</dcterms:created>
  <dc:creator>*</dc:creator>
  <dc:description/>
  <dc:language>en-US</dc:language>
  <cp:lastModifiedBy>*</cp:lastModifiedBy>
  <dcterms:modified xsi:type="dcterms:W3CDTF">2008-01-13T21:00:09Z</dcterms:modified>
  <cp:revision>1</cp:revision>
  <dc:subject/>
  <dc:title>PowerPoint-Präsentation</dc:title>
</cp:coreProperties>
</file>