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0EF-BFB9-49AF-B0E3-FBABB4A1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D276-8B4D-4AF9-9D58-1B7D0455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289-AEE8-4150-BC78-B4A83B34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1DE-BDBF-4C0A-AE18-C567B376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188-B081-4832-B91C-65075081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8B1-6ECB-4755-836B-5138B6DD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226-2212-4BC6-B296-F3EB19FB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0A4-5C13-4036-8CEC-DFB3BB2E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FAF-8D87-474B-AEBC-8569DC0E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5D2-7D59-4462-8041-A44F67C4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D80-814B-4C73-AC95-84646B1C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5BF-D8A5-4BDD-A0DC-44439A92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9D30-F45A-4D52-B82E-1245A955D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680" y="20520"/>
            <a:ext cx="6880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5:42Z</dcterms:created>
  <dc:creator>*</dc:creator>
  <dc:description/>
  <dc:language>en-US</dc:language>
  <cp:lastModifiedBy>*</cp:lastModifiedBy>
  <dcterms:modified xsi:type="dcterms:W3CDTF">2007-12-16T10:28:04Z</dcterms:modified>
  <cp:revision>2</cp:revision>
  <dc:subject/>
  <dc:title>PowerPoint-Präsentation</dc:title>
</cp:coreProperties>
</file>