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2EB2-51C9-47C9-AFFC-07687C66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6A1-FA99-4621-9249-1DD920E5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5FB-E9DD-49FB-B5C8-67B36D3E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38E-B669-4D8A-ABB4-A745B2F5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B4F-ED8F-40FB-9891-C0B9E616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CA2-EC5D-493F-8082-B5DD8205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E9D-7262-4E40-97F4-37E267C2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3C64-54BC-41CF-AD4E-035B7FB9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185-7842-491F-AD60-47C09146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702-E153-4BCF-AB61-4C9A0EE3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F80-23A3-491D-B001-9DF8A4B9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11F-0C71-4800-A6CC-B2843D76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05C6-0867-4D6D-A73D-98CB86F39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4680" y="20520"/>
            <a:ext cx="6880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0:25:42Z</dcterms:created>
  <dc:creator>*</dc:creator>
  <dc:description/>
  <dc:language>en-US</dc:language>
  <cp:lastModifiedBy>*</cp:lastModifiedBy>
  <dcterms:modified xsi:type="dcterms:W3CDTF">2007-12-16T10:28:04Z</dcterms:modified>
  <cp:revision>2</cp:revision>
  <dc:subject/>
  <dc:title>PowerPoint-Präsentation</dc:title>
</cp:coreProperties>
</file>