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863-B493-4FF5-A9CA-65EF1199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F1E-15AF-4311-BFB8-27F65547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846-49E4-44E2-91E2-BA9E0AA2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879-4AFC-4400-8404-6A07DB39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AFF-184B-4AB1-83B7-C317E5FF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C18-BC1A-4535-8577-C700FADC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CEC-A062-4728-976B-3D229238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E9F-DC79-47A9-B2C1-A903259E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146-823C-43E2-83DE-5F66FD23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8F5-7DBA-4EA4-BFDF-216D8F0F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142-1311-4F7A-B65E-C2C0BD0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676-FCDE-41B8-9EFB-AC01DB03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AE66-CF88-4CBB-9923-A14726966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43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6:50Z</dcterms:modified>
  <cp:revision>1</cp:revision>
  <dc:subject/>
  <dc:title>PowerPoint-Präsentation</dc:title>
</cp:coreProperties>
</file>