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E26-68C8-47A3-9548-C9A59C06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EF0-467A-4056-8713-C5A0C40E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DD9-F664-4CE8-A8A4-493C4E18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567-8E17-4D33-A1B6-996399CC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DB5-B2E1-477B-A79B-8BA8BB56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FEC-D67A-4773-8017-FE579354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68D-59D7-4E78-B618-1238F967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C15-95D4-4E76-94B1-65C98818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E35-CC70-4119-9EC6-DBFA403F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2E0-0627-41BD-A0C6-A4917D7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0F2-793C-4239-84D5-4E5AD490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69D-11CE-48A8-8A92-9152A9C3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27EE-FBB3-407F-ACC9-EB6919AE9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20520"/>
            <a:ext cx="6880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8:04Z</dcterms:modified>
  <cp:revision>2</cp:revision>
  <dc:subject/>
  <dc:title>PowerPoint-Präsentation</dc:title>
</cp:coreProperties>
</file>