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6EA-D779-42CF-81AB-9A0A43A5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385-4745-4DFA-B65D-AB637F54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A4C-9524-43FC-BC8A-96CABBED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4FA-4F64-4505-82F3-C40B2C98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5041-7F6A-47A6-9FB0-D5C11D63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2F8-DE5F-41E9-A38B-704550E9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4F9-7B4F-4E87-A114-A08D788A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031-C481-4CEA-916D-81113A9F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68A-B53B-43DF-95EE-48C13E29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EE1-2768-4F94-AD77-03D30D9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23F-8B04-43B1-864F-73A1AE3A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896-9B22-4391-8C2E-E58B1222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10C3-7BEE-4EC9-9E1E-2F45AB17C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20520"/>
            <a:ext cx="6880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8:04Z</dcterms:modified>
  <cp:revision>2</cp:revision>
  <dc:subject/>
  <dc:title>PowerPoint-Präsentation</dc:title>
</cp:coreProperties>
</file>