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D26-56C8-4091-BE20-353C26EE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484-ED79-44F8-A6E8-64243EE1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AF4-3CD2-49FD-A934-F8D8689E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8A6-27AC-4AB7-956D-137A895E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F2D-B037-45A8-A0AB-7E602758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9B6-D8E3-457A-A022-A2D5D20C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3E0-1801-4BCF-B290-CD437BB2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219-5AB5-4DC5-B7E9-678238B0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C71-5F92-42AB-8F4C-6BC03C4C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2E2-FF31-47F2-B460-473762E4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126-CE49-48A8-A695-3B9478CF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66C-E25C-4746-90AD-4416F71C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8DA0-DD0E-4576-BA16-0C4B1773F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685152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0:23:00Z</dcterms:created>
  <dc:creator>*</dc:creator>
  <dc:description/>
  <dc:language>en-US</dc:language>
  <cp:lastModifiedBy>*</cp:lastModifiedBy>
  <dcterms:modified xsi:type="dcterms:W3CDTF">2007-12-16T10:23:57Z</dcterms:modified>
  <cp:revision>1</cp:revision>
  <dc:subject/>
  <dc:title>PowerPoint-Präsentation</dc:title>
</cp:coreProperties>
</file>