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02B-0A18-4E86-A266-B93C6DE2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DB33-8F3D-465E-97F1-F4B2ACA0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463-6004-4A54-972E-BB28B1CC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EB3-82D5-4DBF-8755-26BAEFE6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6D0-6AC0-4C9C-BA2E-6DEE9C8F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A5C-D5AA-4B93-AC9A-219E8D79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B19-2952-4C3C-9075-96147EB3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2B5-0B37-48F7-92B1-F9573B2A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F5E-AC6C-430A-BDF3-67D9C375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B91-190E-4D75-9661-48BF1843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6AE-5675-4F07-A3DB-C78F7FAB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02A-121B-4304-AAD1-208C2862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90F2-6BFA-4E66-B317-B61A682A8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43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5:42Z</dcterms:created>
  <dc:creator>*</dc:creator>
  <dc:description/>
  <dc:language>en-US</dc:language>
  <cp:lastModifiedBy>*</cp:lastModifiedBy>
  <dcterms:modified xsi:type="dcterms:W3CDTF">2007-12-16T10:26:50Z</dcterms:modified>
  <cp:revision>1</cp:revision>
  <dc:subject/>
  <dc:title>PowerPoint-Präsentation</dc:title>
</cp:coreProperties>
</file>