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A8D-BECA-42E9-8181-A960D61F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396-2941-4B90-80A3-D192D9A0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963-68AD-4180-A38A-E5037C98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68B-4294-47D3-8406-384C7981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395-6544-454C-A1BB-47CB5E29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0BC-DAF5-470C-AC2E-8651652B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74B-6717-4AB9-8E4C-568E7189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2EE-FEBB-4B6E-8B2C-0C3CC1BE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8E1-5DE2-4EEE-83B7-7953735C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AF8-8154-4000-AF1C-88967F8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EF8-BCBC-48FF-BA27-3FBCBEA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08F-8F94-4D5D-B153-A58E3F03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8587-A4AE-4D53-8CDF-8D9953E8C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515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3:00Z</dcterms:created>
  <dc:creator>*</dc:creator>
  <dc:description/>
  <dc:language>en-US</dc:language>
  <cp:lastModifiedBy>*</cp:lastModifiedBy>
  <dcterms:modified xsi:type="dcterms:W3CDTF">2007-12-16T10:23:57Z</dcterms:modified>
  <cp:revision>1</cp:revision>
  <dc:subject/>
  <dc:title>PowerPoint-Präsentation</dc:title>
</cp:coreProperties>
</file>