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605-293F-4127-9DC9-501340DF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E4F-B7D4-47CA-B45B-40CF31CA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0FE-AB01-4539-B433-E8E7EDD9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045-7F7D-4965-A06A-36C3895B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715-AED5-4B2F-B946-291CFB6A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EE4-0382-4ECA-89EE-2736E6B6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CE3-8BB5-47A8-9969-5028151A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A55-8C5B-4C94-92C9-3867DF42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419-6F0E-41C8-B618-47B9EE3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FC6-7C4A-4C69-8CE6-A2C1DB3C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942-A29E-4D0B-9D4F-9863404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516-E34C-4617-A337-BBCAFBDF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D727-5222-42FA-949E-63AB8AEF4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515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3:00Z</dcterms:created>
  <dc:creator>*</dc:creator>
  <dc:description/>
  <dc:language>en-US</dc:language>
  <cp:lastModifiedBy>*</cp:lastModifiedBy>
  <dcterms:modified xsi:type="dcterms:W3CDTF">2007-12-16T10:23:57Z</dcterms:modified>
  <cp:revision>1</cp:revision>
  <dc:subject/>
  <dc:title>PowerPoint-Präsentation</dc:title>
</cp:coreProperties>
</file>